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whoosh.wav" ContentType="audio/x-wav"/>
  <Override PartName="/ppt/media/image28.jpeg" ContentType="image/jpeg"/>
  <Override PartName="/ppt/media/image7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D76-A52A-4452-B455-B19D1E4C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977-8D63-4228-B5FB-B2069FB5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2F4-2069-4139-B27A-E806E982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5DE-8A0E-48B6-B897-F816465C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540-C5A0-4150-A2BD-9080BC87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EE9-02A8-4355-87D9-109BE906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CE6-3448-4412-9E09-B32358F7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CB9-23A8-4DF5-8B8F-E55C5422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1AE-DEAE-4A39-BC95-797E6601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5E8-CDCC-4DA3-8777-334D03AA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5ED-B389-482D-A037-35692A02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E34-EC43-4D73-A9AB-02714410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BD47-CCC8-4E6C-B720-24BABA9DF1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flickr.com/photos/sarfrazh/5563767966/?scrlybrkr=c5d27584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work Bell Ri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25"/>
          <p:cNvPicPr/>
          <p:nvPr/>
        </p:nvPicPr>
        <p:blipFill>
          <a:blip r:embed="rId1"/>
          <a:stretch/>
        </p:blipFill>
        <p:spPr>
          <a:xfrm>
            <a:off x="1143000" y="2286000"/>
            <a:ext cx="3505320" cy="3341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4724280" y="259092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mythological creature is represented for the first time in history in this ancient Indian seal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533520" y="1219320"/>
            <a:ext cx="834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Trad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- a major activity along the Indus based on sheer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number of square seal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 Trade with neighboring areas of India and Sumer.  Mesopotamia texts speak of trading with two seafaring civilizations - may have referred to the Indu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" name="Picture 3" descr="22"/>
          <p:cNvPicPr/>
          <p:nvPr/>
        </p:nvPicPr>
        <p:blipFill>
          <a:blip r:embed="rId1"/>
          <a:stretch/>
        </p:blipFill>
        <p:spPr>
          <a:xfrm>
            <a:off x="4513320" y="3071880"/>
            <a:ext cx="4349520" cy="290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http://cache.io9.com/assets/images/8/2011/02/harappan_small_figures.jpg"/>
          <p:cNvPicPr/>
          <p:nvPr/>
        </p:nvPicPr>
        <p:blipFill>
          <a:blip r:embed="rId2"/>
          <a:stretch/>
        </p:blipFill>
        <p:spPr>
          <a:xfrm>
            <a:off x="152280" y="3276720"/>
            <a:ext cx="4435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95920" cy="6019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87840" y="685800"/>
            <a:ext cx="63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weight system of Indus - for trade or tax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mitchellteachers.org/WorldHistory/IndiaUnit/images/mohenjodaro/WaterChannelPic_large.jpg"/>
          <p:cNvPicPr/>
          <p:nvPr/>
        </p:nvPicPr>
        <p:blipFill>
          <a:blip r:embed="rId1"/>
          <a:stretch/>
        </p:blipFill>
        <p:spPr>
          <a:xfrm>
            <a:off x="1066680" y="914400"/>
            <a:ext cx="7167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5986440" y="3048120"/>
            <a:ext cx="31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corn seal - first known example of this mythological creat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5" descr="25"/>
          <p:cNvPicPr/>
          <p:nvPr/>
        </p:nvPicPr>
        <p:blipFill>
          <a:blip r:embed="rId1"/>
          <a:stretch/>
        </p:blipFill>
        <p:spPr>
          <a:xfrm>
            <a:off x="533520" y="533520"/>
            <a:ext cx="5333760" cy="5084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rot="1518000">
            <a:off x="6705000" y="685800"/>
            <a:ext cx="213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Elephant"/>
              </a:rPr>
              <a:t>What type of creature is thi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86000" y="1828800"/>
            <a:ext cx="457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Mohenjo-Daro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Arial"/>
              </a:rPr>
              <a:t>2400-1800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2746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533520" y="312408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wer city with brick houses (remains several feet high).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Houses are plain and utilitaria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re built around a central courtyard with few external windows for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………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 Why?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re relatively large showing that the middle class was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relatively prosperous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ny show rebuilding due to floods - but obviously becoming poorer over time - more subdivision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029200" y="609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40,000 people lived here. Consisted of a lower city and a citadel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33520" y="990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04920" y="53352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Grana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150x75’) placed on a platform and constructed like a fortress with slightly sloping-in walls.  Air was allowed to circulate beneath to prevent fermentation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3" descr="15"/>
          <p:cNvPicPr/>
          <p:nvPr/>
        </p:nvPicPr>
        <p:blipFill>
          <a:blip r:embed="rId1"/>
          <a:stretch/>
        </p:blipFill>
        <p:spPr>
          <a:xfrm>
            <a:off x="2133720" y="2133720"/>
            <a:ext cx="648792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762120" y="3809880"/>
            <a:ext cx="69339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anary - Acted like local “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ank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” for citizens to deposit their grain.  Was it a community that shared its profits?  [Houses were not ostentatious - prosperous but did not need to show it.]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haps the beginnings of a “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ociali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” culture –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ocialism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a political system in which wealth and labor is shared equally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4" descr="http://www.arch.mcgill.ca/prof/sijpkes/arch528/fall2001/lecture4/Mohenjo-Daro-house.jpeg"/>
          <p:cNvPicPr/>
          <p:nvPr/>
        </p:nvPicPr>
        <p:blipFill>
          <a:blip r:embed="rId1"/>
          <a:stretch/>
        </p:blipFill>
        <p:spPr>
          <a:xfrm>
            <a:off x="2590920" y="380880"/>
            <a:ext cx="4371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5715000" y="0"/>
            <a:ext cx="312408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Great Bat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” of Mohenjo-daro is th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arliest public water tank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the ancient world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water-tight due to finely fitted bricks laid into a gypsum plaster, coated with layer of bitumen (natural tar)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60" y="510552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dd, no drains – was this a ritual bath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6" descr="http://www.harappa.com/indus/gif2/greatbath.jpg"/>
          <p:cNvPicPr/>
          <p:nvPr/>
        </p:nvPicPr>
        <p:blipFill>
          <a:blip r:embed="rId1"/>
          <a:stretch/>
        </p:blipFill>
        <p:spPr>
          <a:xfrm>
            <a:off x="168120" y="380880"/>
            <a:ext cx="5239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522080" y="533520"/>
            <a:ext cx="6558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Elephant"/>
              </a:rPr>
              <a:t>Indus River Valley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Elephant"/>
              </a:rPr>
              <a:t>(2500 – 1750 BC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Picture 4" descr="harmap1"/>
          <p:cNvPicPr/>
          <p:nvPr/>
        </p:nvPicPr>
        <p:blipFill>
          <a:blip r:embed="rId1"/>
          <a:stretch/>
        </p:blipFill>
        <p:spPr>
          <a:xfrm>
            <a:off x="2362320" y="2390760"/>
            <a:ext cx="48387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acoeuretacris.a.c.pic.centerblog.net/mohenjo-daro-9-20a699e.jpg"/>
          <p:cNvPicPr/>
          <p:nvPr/>
        </p:nvPicPr>
        <p:blipFill>
          <a:blip r:embed="rId1"/>
          <a:stretch/>
        </p:blipFill>
        <p:spPr>
          <a:xfrm>
            <a:off x="1447920" y="990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-31104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4" descr="30"/>
          <p:cNvPicPr/>
          <p:nvPr/>
        </p:nvPicPr>
        <p:blipFill>
          <a:blip r:embed="rId1"/>
          <a:stretch/>
        </p:blipFill>
        <p:spPr>
          <a:xfrm>
            <a:off x="6386400" y="0"/>
            <a:ext cx="271800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9"/>
          <p:cNvSpPr/>
          <p:nvPr/>
        </p:nvSpPr>
        <p:spPr>
          <a:xfrm>
            <a:off x="-3747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11" descr="31"/>
          <p:cNvPicPr/>
          <p:nvPr/>
        </p:nvPicPr>
        <p:blipFill>
          <a:blip r:embed="rId2"/>
          <a:stretch/>
        </p:blipFill>
        <p:spPr>
          <a:xfrm>
            <a:off x="0" y="0"/>
            <a:ext cx="387972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457200" y="487692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nguage – Not Translated Ye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we know about daily life, government and religion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299880" y="15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Picture 4" descr="41"/>
          <p:cNvPicPr/>
          <p:nvPr/>
        </p:nvPicPr>
        <p:blipFill>
          <a:blip r:embed="rId1"/>
          <a:stretch/>
        </p:blipFill>
        <p:spPr>
          <a:xfrm>
            <a:off x="533520" y="685800"/>
            <a:ext cx="331308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4327560" y="574560"/>
            <a:ext cx="3521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lephant"/>
              </a:rPr>
              <a:t>Believe their government was led by priest-king much like Sumerian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lephant"/>
              </a:rPr>
              <a:t>This statue shows trefoil design copied from Sumerians.  Indicates trade and possible </a:t>
            </a:r>
            <a:r>
              <a:rPr b="0" lang="en-US" sz="2400" spc="-1" strike="noStrike">
                <a:solidFill>
                  <a:srgbClr val="00ffff"/>
                </a:solidFill>
                <a:latin typeface="Elephant"/>
              </a:rPr>
              <a:t>transference of ritual ideas</a:t>
            </a:r>
            <a:r>
              <a:rPr b="0" lang="en-US" sz="2400" spc="-1" strike="noStrike">
                <a:solidFill>
                  <a:srgbClr val="ffff00"/>
                </a:solidFill>
                <a:latin typeface="Elephant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http://moodle.houstonisd.org/LAMARHS/pluginfile.php/22621/mod_folder/content/0/River%20Vally%20Map.jpg?forcedownload=1"/>
          <p:cNvPicPr/>
          <p:nvPr/>
        </p:nvPicPr>
        <p:blipFill>
          <a:blip r:embed="rId1"/>
          <a:stretch/>
        </p:blipFill>
        <p:spPr>
          <a:xfrm>
            <a:off x="152280" y="0"/>
            <a:ext cx="891540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-5000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4" descr="69"/>
          <p:cNvPicPr/>
          <p:nvPr/>
        </p:nvPicPr>
        <p:blipFill>
          <a:blip r:embed="rId1"/>
          <a:stretch/>
        </p:blipFill>
        <p:spPr>
          <a:xfrm>
            <a:off x="5143680" y="3840120"/>
            <a:ext cx="4000320" cy="30178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-561960" y="20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11" descr="72"/>
          <p:cNvPicPr/>
          <p:nvPr/>
        </p:nvPicPr>
        <p:blipFill>
          <a:blip r:embed="rId2"/>
          <a:stretch/>
        </p:blipFill>
        <p:spPr>
          <a:xfrm>
            <a:off x="0" y="2133720"/>
            <a:ext cx="5181480" cy="2630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6"/>
          <p:cNvSpPr/>
          <p:nvPr/>
        </p:nvSpPr>
        <p:spPr>
          <a:xfrm>
            <a:off x="289080" y="422280"/>
            <a:ext cx="84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ocie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– believe it to be somewhat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galitari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 Everyone had same type of  house – no ostentatious wealth.  Burials were all very similar with again little display of wealth.  Communal sharing of wealth?  Granary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Picture 4" descr="72"/>
          <p:cNvPicPr/>
          <p:nvPr/>
        </p:nvPicPr>
        <p:blipFill>
          <a:blip r:embed="rId1"/>
          <a:stretch/>
        </p:blipFill>
        <p:spPr>
          <a:xfrm>
            <a:off x="0" y="0"/>
            <a:ext cx="9144000" cy="4640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135080" y="510552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gender of this person?  How can you probably guess from this photo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914400" y="2514600"/>
            <a:ext cx="1752480" cy="2362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57200" y="376200"/>
            <a:ext cx="41148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1920s, archaeologist discovered remains of a civilization dated to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3rd millennium B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contemporary with Egyptian pyramids)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an area much larger than that of Old Kingdom Egypt or the Sumerians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 it goes beyond the limits of the Indus River Valley, many want to call it the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Harappan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vilization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57913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s two major cities are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Mohenjodar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Harapp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 There have been over 1,500 sites found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Picture 6" descr="http://a.harappa.com/sites/harappa.drupalgardens.com/files/question/excavations.jpg"/>
          <p:cNvPicPr/>
          <p:nvPr/>
        </p:nvPicPr>
        <p:blipFill>
          <a:blip r:embed="rId1"/>
          <a:stretch/>
        </p:blipFill>
        <p:spPr>
          <a:xfrm rot="757800">
            <a:off x="4760640" y="356760"/>
            <a:ext cx="4267080" cy="279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i-indus-map"/>
          <p:cNvPicPr/>
          <p:nvPr/>
        </p:nvPicPr>
        <p:blipFill>
          <a:blip r:embed="rId2"/>
          <a:stretch/>
        </p:blipFill>
        <p:spPr>
          <a:xfrm>
            <a:off x="5105520" y="2625840"/>
            <a:ext cx="24048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Elephant"/>
              </a:rPr>
              <a:t>Urban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elements must be in place for urbanization?  i.e. What makes a city a city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08160" y="762120"/>
            <a:ext cx="67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rban Development - remarkable for its stability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838080" y="1600200"/>
            <a:ext cx="7010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city planning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streets at right angles with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covered drain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houses made of baked bricks of same size found across valley, common system of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weights &amp; measureme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vision between public and private (houses, granaries, baths, shops, walled fortress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eded to know geometry and surveying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eded strong central authority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-56196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Picture 6" descr="67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ttp://www.harappa.com/har/gif/moh11.jpg"/>
          <p:cNvPicPr/>
          <p:nvPr/>
        </p:nvPicPr>
        <p:blipFill>
          <a:blip r:embed="rId1"/>
          <a:stretch/>
        </p:blipFill>
        <p:spPr>
          <a:xfrm>
            <a:off x="0" y="0"/>
            <a:ext cx="380700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4710600" y="4968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ets at Right Ang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Picture 6" descr="http://www-osl.cs.uiuc.edu/~jamali/gifs/jpeg/mjd-cover.jpg"/>
          <p:cNvPicPr/>
          <p:nvPr/>
        </p:nvPicPr>
        <p:blipFill>
          <a:blip r:embed="rId2"/>
          <a:stretch/>
        </p:blipFill>
        <p:spPr>
          <a:xfrm>
            <a:off x="4000680" y="4846680"/>
            <a:ext cx="5143320" cy="201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4484160" y="39258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vered Drai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-5619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1" name="Picture 10" descr="http://www.harappa.com/indus/gif/09.jpg"/>
          <p:cNvPicPr/>
          <p:nvPr/>
        </p:nvPicPr>
        <p:blipFill>
          <a:blip r:embed="rId3"/>
          <a:stretch/>
        </p:blipFill>
        <p:spPr>
          <a:xfrm>
            <a:off x="-15840" y="76320"/>
            <a:ext cx="8991720" cy="6273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533520" y="5486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flickr.com/photos/sarfrazh/5563767966/?scrlybrkr=c5d2758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-312840" y="15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Picture 4" descr="12"/>
          <p:cNvPicPr/>
          <p:nvPr/>
        </p:nvPicPr>
        <p:blipFill>
          <a:blip r:embed="rId1"/>
          <a:stretch/>
        </p:blipFill>
        <p:spPr>
          <a:xfrm>
            <a:off x="558720" y="457200"/>
            <a:ext cx="4013280" cy="6019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952880" y="2743200"/>
            <a:ext cx="35719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most every house unit at Mohenjo-daro was equipped with a private bathing area with drains to take the dirty water out into a larger drain that emptied into a sewage drain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-312840" y="15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4" descr="http://www.harappa.com/indus/gif/19.jpg"/>
          <p:cNvPicPr/>
          <p:nvPr/>
        </p:nvPicPr>
        <p:blipFill>
          <a:blip r:embed="rId1"/>
          <a:stretch/>
        </p:blipFill>
        <p:spPr>
          <a:xfrm>
            <a:off x="380880" y="380880"/>
            <a:ext cx="3759480" cy="5639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4561920" y="49680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ntral Sewage Dr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80880" y="457200"/>
            <a:ext cx="685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ccupation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- Main occupations can be divided into two categories - farmers and trader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arm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- wheat, barley, peas, honey, dates.  Kept camels, goats, water buffaloes, and birds.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irst known people to grow cotton and weave it into clot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-56196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Picture 5" descr="57"/>
          <p:cNvPicPr/>
          <p:nvPr/>
        </p:nvPicPr>
        <p:blipFill>
          <a:blip r:embed="rId1"/>
          <a:stretch/>
        </p:blipFill>
        <p:spPr>
          <a:xfrm>
            <a:off x="2971800" y="2941560"/>
            <a:ext cx="5867280" cy="3916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55"/>
          <p:cNvPicPr/>
          <p:nvPr/>
        </p:nvPicPr>
        <p:blipFill>
          <a:blip r:embed="rId2"/>
          <a:stretch/>
        </p:blipFill>
        <p:spPr>
          <a:xfrm>
            <a:off x="3048120" y="3044880"/>
            <a:ext cx="5715000" cy="381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56"/>
          <p:cNvPicPr/>
          <p:nvPr/>
        </p:nvPicPr>
        <p:blipFill>
          <a:blip r:embed="rId3"/>
          <a:stretch/>
        </p:blipFill>
        <p:spPr>
          <a:xfrm>
            <a:off x="0" y="2895480"/>
            <a:ext cx="3949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11:17:44Z</dcterms:created>
  <dc:creator>Anne Jean Lyons</dc:creator>
  <dc:description/>
  <dc:language>en-US</dc:language>
  <cp:lastModifiedBy>Windows User</cp:lastModifiedBy>
  <dcterms:modified xsi:type="dcterms:W3CDTF">2013-10-25T18:58:12Z</dcterms:modified>
  <cp:revision>18</cp:revision>
  <dc:subject/>
  <dc:title>PowerPoint Presentation</dc:title>
</cp:coreProperties>
</file>